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0EA0-6686-41A0-BF2A-568D55037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BDF6-CF00-4388-BE08-5ADFA77D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B010-2726-4257-89A2-2BE7C634D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FAA7-A589-40E9-AE61-BDC575ACA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83C9-A69B-4B9F-B876-F910748F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8300-84A7-4F38-8760-F901FD95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C2F5-0363-443F-BCFF-92B4F99C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7E57-75B0-49DA-8E53-70092E6C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2EA7-E0DD-4FF7-AB59-2F33B73E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8AF0-4249-4FE4-AF87-44E80B01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46AD-63C0-425A-94C5-58E1A417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D843-0215-416B-AD07-C5D8D754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0192-1FFC-4F43-B194-22E87BE43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hrono.info/img/lica/raevskaya_marnik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rinciple-alpha.ru/p31-49.GI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ekrasow.org.ru/lib/op/author/493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nekrasov_pic_02"/>
          <p:cNvPicPr/>
          <p:nvPr/>
        </p:nvPicPr>
        <p:blipFill>
          <a:blip r:embed="rId1"/>
          <a:stretch/>
        </p:blipFill>
        <p:spPr>
          <a:xfrm>
            <a:off x="928800" y="1500120"/>
            <a:ext cx="7858080" cy="3000600"/>
          </a:xfrm>
          <a:prstGeom prst="rect">
            <a:avLst/>
          </a:prstGeom>
          <a:ln w="0">
            <a:noFill/>
          </a:ln>
        </p:spPr>
      </p:pic>
      <p:pic>
        <p:nvPicPr>
          <p:cNvPr id="42" name="Заголовок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8192880" cy="1890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571320" y="2918880"/>
            <a:ext cx="7854840" cy="1806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Выполнила Дуркина Анжелика Степанов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Студенка 4 курс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Филологического  факультета КГП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2571840" y="564372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Сыктывкар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? Основополагающий вопрос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28760" y="18568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На  что способен человек ради любви?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i?id=10950460&amp;tov=2"/>
          <p:cNvPicPr/>
          <p:nvPr/>
        </p:nvPicPr>
        <p:blipFill>
          <a:blip r:embed="rId1"/>
          <a:stretch/>
        </p:blipFill>
        <p:spPr>
          <a:xfrm>
            <a:off x="1357200" y="3286080"/>
            <a:ext cx="2286000" cy="3202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Картинка 2 из 101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29120" y="3143160"/>
            <a:ext cx="20718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? Проблемные вопросы 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чему Н.А. Некрасов обратился к теме о женах декабристов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то является главной героиней поэмы Н.А. Некрасова «Русские женщины»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 чем повествуют части поэмы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к автор  относится к своим героям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кими чертами характера обладают княгини Трубецкая и Волконска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к Н.А. Некрасов изобразил любовь женщины в своей поэме «Русские женщины»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Представление результатов исследования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очинение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эссе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ворческое задание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езентац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аблиц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фото - репортаж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ообщ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Картинка 801 из 10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7840" y="1951200"/>
            <a:ext cx="3214440" cy="381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Мы будем изучать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57560" indent="-45756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эма как жанр произвед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сторическая основа поэмы Н.А. Некрасова «Русские женщины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еличие духа русских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женщин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 поэме Н.А. Некрасова «Русские женщины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сновные некрасовские представления о духов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м подвиге во имя любви русских женщи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равнен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и сопоставлен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бразов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княгинь Трубецкой и Волконск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Распределение по группам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85840" y="1928880"/>
          <a:ext cx="8329680" cy="4114800"/>
        </p:xfrm>
        <a:graphic>
          <a:graphicData uri="http://schemas.openxmlformats.org/drawingml/2006/table">
            <a:tbl>
              <a:tblPr/>
              <a:tblGrid>
                <a:gridCol w="1055520"/>
                <a:gridCol w="4338720"/>
                <a:gridCol w="939960"/>
                <a:gridCol w="1995480"/>
              </a:tblGrid>
              <a:tr h="17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мер групп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частни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ставл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зультатов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следова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эма как жанр произведения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ческая основа поэмы Н.А. Некрасова «Русские женщины»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личие духа русских по поэме Н.А. Некрасова «Русские женщины»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некрасовские представления о духовом подвиге во имя любви русских женщин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авнения и сопоставления любви княгинь Трубецкой и Волконской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Продолжительность проект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2 недели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Этапы проведения проекта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ыбор и формулировка тем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иск информа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амостоятельная работа учащихс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едоставление результатов исследова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Информационные ресурсы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nekrasow.org.ru/lib/op/author/49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www.kostyor.ru/student/?n=24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lib.ru/LITRA/NEKRASOW/trubeckaya.txt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lit.1september.ru/2003/37/5.ht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0-04-07T08:51:1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